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8CF7-52E3-4788-B951-7C3F633AC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9FE4-980D-4CB0-9823-D9523F7F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1C89-C27F-45CB-AE47-D7CB1FD08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3ABF-3375-425B-9F0C-3285F1FA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F2AF-6243-4C65-A150-4E4D09B6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6082-452A-452F-8AF3-91C5AA3E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90E2-15A7-4B2D-A716-64A677D3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A528-1BFA-4677-913A-A40E5F8A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56D0-A9A3-43AE-80B9-DC74942C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E42F-6052-4678-BB20-3B22A7BC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8196-C694-49CE-A065-681A43A4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924F-3888-4709-A9D8-3DBF8925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645B-BD29-4BF4-B7F7-AE3B747F1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od and Residue continued…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od adjuncts are related to the finite: express meanings associated with tense, polarity and modalit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eam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obvious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ing     to have to be repla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ubjec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F    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adjunct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ood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lock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Resid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adjunct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lement 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ood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lock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Resid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apted from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off Thompson 2004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Introducing Functional Gramma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ndon: Hodder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e 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.Droga &amp; S Humphries 2002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etting Started with Functional Gramma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SW: Target 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al Adjun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y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his ba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ubject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Finite 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Predicator 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Adjun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Mood Block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Residue 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times, there are ‘extra items’ between the subject and the finite. E.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ways lying on his 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do you categorise ‘alway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extras’ are called Modal Adjun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commonl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nctive adjun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adjun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od adjun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nctive adjuncts (sometimes called ‘discourse markers’) signal how a clause fits in with preceding tex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junctive Adjunc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unctuation, on the other hand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oduced faithful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Subject 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8000"/>
                </a:solidFill>
                <a:latin typeface="Arial"/>
              </a:rPr>
              <a:t>(adjunct) </a:t>
            </a:r>
            <a:r>
              <a:rPr b="0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cc33"/>
                </a:solidFill>
                <a:latin typeface="Arial"/>
              </a:rPr>
              <a:t>finite </a:t>
            </a:r>
            <a:r>
              <a:rPr b="0" lang="en-GB" sz="20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6600ff"/>
                </a:solidFill>
                <a:latin typeface="Arial"/>
              </a:rPr>
              <a:t>predicato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jun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Mo-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-od Block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6600ff"/>
                </a:solidFill>
                <a:latin typeface="Arial"/>
              </a:rPr>
              <a:t>Residue </a:t>
            </a:r>
            <a:r>
              <a:rPr b="0" lang="en-GB" sz="2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adjuncts typically comment on the clause as a who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ent adjunc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fortunately, this tendency has declin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197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djunct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ubject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finite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predicator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dju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 o  o   d              b  l  o  c  k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Resid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endency has, unfortunately,  declin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19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ubject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finite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adjunct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predicator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dju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 o  o   d              b  l  o  c  k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Resid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11:08:19Z</dcterms:created>
  <dc:creator>clarkuil</dc:creator>
  <dc:description/>
  <dc:language>en-US</dc:language>
  <cp:lastModifiedBy>clarkuil</cp:lastModifiedBy>
  <dcterms:modified xsi:type="dcterms:W3CDTF">2008-04-07T13:38:21Z</dcterms:modified>
  <cp:revision>3</cp:revision>
  <dc:subject/>
  <dc:title>Mood and Residue continued…….</dc:title>
</cp:coreProperties>
</file>